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CAA0-78ED-4816-A927-1EDF50E9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DFD-7989-44C8-A520-8FA91D99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AF19-7B71-4F3E-B05C-4FA836C2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B269-3E60-4F6F-B411-610E4F6B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A7C8-DD97-44EF-ACE4-89BB3D0B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484E-1CDA-454C-86B6-B3E68B50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8E8-9259-419C-8D1E-8B75CC2C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BCC-69FF-444A-90AF-52EA7FB2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D64B-B0BA-411C-87BD-6C56A7E7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6979-2973-4D76-9CB3-D581EF88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11D5-AFA6-4332-8E51-02D775E7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789-7771-4B16-BE98-D0F40824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841E-46E3-4405-B00F-AD6F52B2B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8" descr=""/>
          <p:cNvPicPr/>
          <p:nvPr/>
        </p:nvPicPr>
        <p:blipFill>
          <a:blip r:embed="rId2"/>
          <a:stretch/>
        </p:blipFill>
        <p:spPr>
          <a:xfrm>
            <a:off x="-146160" y="1103400"/>
            <a:ext cx="9156960" cy="28652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9"/>
          <p:cNvSpPr/>
          <p:nvPr/>
        </p:nvSpPr>
        <p:spPr>
          <a:xfrm>
            <a:off x="4143240" y="47149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c29"/>
                </a:solidFill>
                <a:latin typeface="Gabriola"/>
                <a:ea typeface="Times New Roman"/>
              </a:rPr>
              <a:t>Учитель начальных классов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c29"/>
                </a:solidFill>
                <a:latin typeface="Gabriola"/>
                <a:ea typeface="Times New Roman"/>
              </a:rPr>
              <a:t>МБОУ «Прогимназия»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c29"/>
                </a:solidFill>
                <a:latin typeface="Gabriola"/>
                <a:ea typeface="Times New Roman"/>
              </a:rPr>
              <a:t>г. Сург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3c29"/>
                </a:solidFill>
                <a:latin typeface="Gabriola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143c29"/>
                </a:solidFill>
                <a:latin typeface="Gabriola"/>
                <a:ea typeface="Times New Roman"/>
              </a:rPr>
              <a:t>Зеленцова Галина Геннад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7172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500040" y="55008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ут по реке пошла полоса тумана, и опять неясно, кто был восьмым - Коза (или Овца, согласно японскому гороскоп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1500120" y="428760"/>
            <a:ext cx="66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вятой в очереди стала Обезьяна. Лишь убедившись в безопасности мероприятия, она вошла в вод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0000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5"/>
          <p:cNvSpPr/>
          <p:nvPr/>
        </p:nvSpPr>
        <p:spPr>
          <a:xfrm>
            <a:off x="571680" y="5143680"/>
            <a:ext cx="82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сятым прибежал Петух, который задержался, потому, что долго и обстоятельно рассказывал своей многочисленной семье, как она должна жить в его отсут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5"/>
          <p:cNvSpPr/>
          <p:nvPr/>
        </p:nvSpPr>
        <p:spPr>
          <a:xfrm>
            <a:off x="1357200" y="357120"/>
            <a:ext cx="707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иннадцатой прискакала Собака. С утра у неё была масса хозяйственных дел, и, едва с ними управившись, она разгорячённая бросилась в воду. Говорят, потом долго кашля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430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6"/>
          <p:cNvSpPr/>
          <p:nvPr/>
        </p:nvSpPr>
        <p:spPr>
          <a:xfrm>
            <a:off x="1357200" y="285840"/>
            <a:ext cx="7572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, наконец, последним появился Кабан (по другим источникам, прислал вместо себя Свинью). Он не очень спешил: не честолюбив, не привередлив, он ив жизни обычно добирает всё, что осталось ему после пронырливых. Ему Будда подарил последний оставшийся год, но самый хороший: год Кабана отличается изобилием  и спокойствием. Так была награждена великолепная черта характера — способность удерживаться от соблазна, тянуть одеяло на себ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2"/>
          <p:cNvSpPr/>
          <p:nvPr/>
        </p:nvSpPr>
        <p:spPr>
          <a:xfrm>
            <a:off x="428760" y="357120"/>
            <a:ext cx="842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ав владельцем целого года, животное передало ему свои типичные черты. Что же касается человека, то теперь, в зависимости от того, в каком году он родился, можно было определить его характер, судьбу. Рожденный под одним из этих знаков человек приобретал и типичные черты животного - его силу или слабость, доброту или злобу, гордость или скром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2d050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714240" y="2000160"/>
            <a:ext cx="78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3c29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143c29"/>
                </a:solidFill>
                <a:latin typeface="Times New Roman"/>
                <a:ea typeface="Times New Roman"/>
              </a:rPr>
              <a:t>Восточный гороскоп картинки фото: </a:t>
            </a:r>
            <a:r>
              <a:rPr b="0" lang="en-US" sz="1800" spc="-1" strike="noStrike">
                <a:solidFill>
                  <a:srgbClr val="143c29"/>
                </a:solidFill>
                <a:latin typeface="Times New Roman"/>
                <a:ea typeface="Times New Roman"/>
              </a:rPr>
              <a:t>images.yandex.ru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714240" y="2643120"/>
            <a:ext cx="771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3c29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со знаками Зодиака и Восточного гороскопа :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internet.ru›users/bolisichka/post277203749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714240" y="4429080"/>
            <a:ext cx="785844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ифы и легенды о животных китайского гороско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айт: http://shkola-abv.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4"/>
          <p:cNvSpPr/>
          <p:nvPr/>
        </p:nvSpPr>
        <p:spPr>
          <a:xfrm>
            <a:off x="714240" y="3643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3c29"/>
                </a:solidFill>
                <a:latin typeface="Times New Roman"/>
                <a:ea typeface="Times New Roman"/>
              </a:rPr>
              <a:t>•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точный гороскоп по годам рожден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и восточного гороскопа 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nik-online.net/goroskop/vostoch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512280" y="714240"/>
            <a:ext cx="797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писок использованных  источ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5"/>
          <p:cNvSpPr/>
          <p:nvPr/>
        </p:nvSpPr>
        <p:spPr>
          <a:xfrm>
            <a:off x="642960" y="3643200"/>
            <a:ext cx="82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жды  Будда пригласил к себе на день рождения (празднование нового года, пира, дня отъезда Будды из этого мира) всех животных, какие захотят прий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шло 12 зверей: время стояло холодное, а чтобы попасть к Будде, нужно было переплыть широкую реку. Каждому животному в порядке живой очереди Будда подарил по одному году управл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1285920" y="42876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вой пришла Крыса - ей достался первый год 12-летнего цик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214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1428840" y="214200"/>
            <a:ext cx="7715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авда, очевидцы этого замечательного заплыва утверждают, что первым достиг противоположного берега Буйвол, а Крыса, которой не хотелось мокнуть в холодной воде, попросила Буйвола перевезти её на своей спине, и тот по доброте душевной согласился. Пока Буйвол отряхивался, чтобы предстать перед Буддой в приличном виде, Крыса, соскочив с его спины, быстренько побежала вперёд, и в очереди за предполагаемым дефицитом оказалась первой. Она была вознаграждена за оперативность и умение пользоваться обстоятельства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642960" y="535788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асть зрителей потом божилась, что это была не Крыса, а маленькая, но умненькая Мышь, и что она вовсе не попросилась к Буйволу на спину, а проехала «зайцем». Буйвол её не заметил и был весьма удивлён, оказавшись в очереди вторы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0000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6"/>
          <p:cNvSpPr/>
          <p:nvPr/>
        </p:nvSpPr>
        <p:spPr>
          <a:xfrm>
            <a:off x="1643040" y="42876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уть-чуть отстал от Буйвола Тигр, которому достался третий го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214280" cy="1143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6"/>
          <p:cNvSpPr/>
          <p:nvPr/>
        </p:nvSpPr>
        <p:spPr>
          <a:xfrm>
            <a:off x="1428840" y="21420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льщики, увлечённые соревнованием между Буйволом и Тигром (они с тех пор и в жизни соревнуются друг с другом), как следует, не рассмотрели, кто пришёл четвёртым - Кот, Заяц или Кролик. За давностью лет истину установить невозможно, и у восточных различных народов так и осталось разночтение относительно хозяина четвёртого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8"/>
          <p:cNvSpPr/>
          <p:nvPr/>
        </p:nvSpPr>
        <p:spPr>
          <a:xfrm>
            <a:off x="3087000" y="428760"/>
            <a:ext cx="30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ятым был Драк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21428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7"/>
          <p:cNvSpPr/>
          <p:nvPr/>
        </p:nvSpPr>
        <p:spPr>
          <a:xfrm>
            <a:off x="1874880" y="857160"/>
            <a:ext cx="35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естой оказалась Зме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71720" cy="114300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6"/>
          <p:cNvSpPr/>
          <p:nvPr/>
        </p:nvSpPr>
        <p:spPr>
          <a:xfrm>
            <a:off x="2368440" y="4287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дьмой — Лоша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3T12:34:27Z</dcterms:created>
  <dc:creator>user</dc:creator>
  <dc:description/>
  <dc:language>en-US</dc:language>
  <cp:lastModifiedBy>Борис</cp:lastModifiedBy>
  <dcterms:modified xsi:type="dcterms:W3CDTF">2014-04-14T16:11:44Z</dcterms:modified>
  <cp:revision>14</cp:revision>
  <dc:subject/>
  <dc:title>Слайд 1</dc:title>
</cp:coreProperties>
</file>